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981B-4682-4412-B72A-30703518D3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D00D-7794-430A-900F-3EE869DAB9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C6DE-9BFD-4D64-BEA8-1AC9EF6973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FC60-2FF4-4DE7-A815-DE9DEFD5D0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97AA-7231-4630-8188-6ABFA556CC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A04B-4FF8-427C-9CE8-21E2281890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C1F8-6669-4FD0-8F84-4EA1C5AD81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D3D8-D81C-4B86-9E00-B905E1D8EF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570D-F5FA-4D31-B9D3-CB8BB46343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26AB-0D8B-4787-B315-FFA67C4866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4C9B-8EF1-4749-B604-858C1FAF6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5188-034C-4189-83D8-E9DE6A96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68D0-BDB5-4C1C-93F9-F4157BCE6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15A6-BBC4-49DD-800B-AE5B7FB98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F9E0-945E-4337-BE60-5E1A9BDC5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C9CE-B18E-4439-848D-3B65CC3C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3A6B-65C0-4CC7-8BD3-ABEC68D7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DC98-8252-40E5-860E-E3DC5BC4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A581-C810-40FD-AB00-1E292B39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3738-67CA-4FF3-83C4-4FE32C22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A665-AFC0-4611-94C6-D1D15540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3920-8F43-4548-943B-5C567C87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34A8-B46A-4D55-97F4-37733600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E1F1-3300-4867-BADE-AF59711B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3A7C-4479-48D2-9AAB-46FFC703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B6EF-57ED-432F-BF45-2B80159AF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34CA-50D7-442F-A88B-064218BB5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1C8FF-4039-4CA0-9F3F-6AF85A88F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C586E-75F4-4277-9759-A261CF79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521BF-BABB-4AB1-A855-FC777208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76B22-8190-4F02-A759-052EBE26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BB337-9B51-45D2-AB37-3A1A9423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E8B2-16BF-4E50-B957-55E797D2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17F2F-5694-4D35-8036-2C1C21C6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30157-0A31-4E72-BE57-BB8A6A44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6C4CC-5CA4-4878-B2A5-E222B9C9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E4994-4B72-49D4-A2CC-1585B1F1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17162-DEAD-4553-91F3-785DDDB9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2B011-D54D-4CA7-8029-AC1944436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E90E8-5672-46D7-AE4C-6C5C7DDE2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735D0-860F-4E90-B0BF-6998A33B4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95A22-2536-4EBC-B351-10ACC67F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C70EC-517E-443B-A4A8-A4E7D04D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0DE2-06A4-412D-B26F-AFD183DC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03B04-33F2-412C-8567-AE0CA7FD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415F4-D77E-4155-A96E-8B3E6C6F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3D892-1465-4CEF-8015-F40FE3D4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CA172-D6B2-4935-B884-CE823D36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04219-C9B8-4CC3-A7BD-62514631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60460-5098-4EDB-9F48-46E5D850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E247B-D18E-4C25-8A79-E1417A6A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4EFF9-5034-497B-BCAE-929831F97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C1713-A486-4456-A482-D6CDD4A32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6E2E4-C89A-45BD-A9E4-A7D86133E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511A-CDB3-4D2B-8491-24D2B440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ECC7A-6180-43B4-99DD-188F58D9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573F7-10DF-4E5B-BC3B-F02DA6A6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348A3-E428-460D-88BE-72339402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65A67-4398-43E9-9D73-E4FB22B4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16080-701C-4E9C-80AF-48C4561E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9E446-DBA3-47BB-9489-A6958568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4CA4A-0BA7-4EC1-B13B-815DCDF7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2FBD3-4C6C-4D40-8333-57B05EC4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DC325-8680-4090-BFB0-3A11D349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EF6E6-9336-4154-BB3F-2E3CC0DE9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DCE3-B9EC-434E-BED7-0A975C2D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1B9C5-0CD5-41CE-89FA-6D340F120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A940-B3E9-45A2-B34D-1922C71B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1A1B-3E37-474B-B37D-40EF7992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10F3-F91A-4618-8FF5-721201A2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B4EA-1173-40CB-93F3-B3CF374F7BF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6033-0BAD-4B07-865D-FDDE7C34A86F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7A3B-84E1-4317-B864-54F9F5F53C30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66A8-6172-4633-BFB2-5EAD31E2D72F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D24C-7F26-488F-B8F4-282513DB5DA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scweb.net/ar_esc" TargetMode="External"/><Relationship Id="rId2" Type="http://schemas.openxmlformats.org/officeDocument/2006/relationships/hyperlink" Target="http://ideas.aetn.org/" TargetMode="External"/><Relationship Id="rId3" Type="http://schemas.openxmlformats.org/officeDocument/2006/relationships/hyperlink" Target="mailto:arideastech@aetn.org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Technology 2010-2011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9766f"/>
                </a:solidFill>
                <a:latin typeface="Verdana"/>
              </a:rPr>
              <a:t>Melinda Oyler, Technology Coordinat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9766f"/>
                </a:solidFill>
                <a:latin typeface="Verdana"/>
              </a:rPr>
              <a:t>England School Distri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Train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7521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ology Tuesday –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uesday of each mon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ptember 7, Web Page Cre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ctober – May, TB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CWeb – </a:t>
            </a:r>
            <a:r>
              <a:rPr b="0" lang="en-US" sz="28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http://www.escweb.net/ar_es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AS – </a:t>
            </a:r>
            <a:r>
              <a:rPr b="0" lang="en-US" sz="2800" spc="-1" strike="noStrike" u="sng">
                <a:solidFill>
                  <a:srgbClr val="6b9f25"/>
                </a:solidFill>
                <a:uFillTx/>
                <a:latin typeface="Verdana"/>
                <a:hlinkClick r:id="rId2"/>
              </a:rPr>
              <a:t>http://ideas.aetn.or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ail </a:t>
            </a:r>
            <a:r>
              <a:rPr b="0" lang="en-US" sz="2400" spc="-1" strike="noStrike" u="sng">
                <a:solidFill>
                  <a:srgbClr val="6b9f25"/>
                </a:solidFill>
                <a:uFillTx/>
                <a:latin typeface="Verdana"/>
                <a:hlinkClick r:id="rId3"/>
              </a:rPr>
              <a:t>arideastech@aetn.or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give email, First Name, Last Name, Last 4 of SS, DO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Wikispace – “What I Know Is”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7521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 address – http://england-school-district.wikispaces.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docu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rname – ESD2, Password – Lions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Maintenanc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7521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ology – Contact M. Oyler for any technology maintenance by email or phone (501) 285-5075 or (501) 842-2041, ext. 212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ecurity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7521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net Use Policy and Warning Bann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cryp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reen sav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reless passwo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wo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2" descr="C:\Users\melinda.oyler.ENGLAND\AppData\Local\Microsoft\Windows\Temporary Internet Files\Content.IE5\OVGS2XBP\MC900365798[1].wmf"/>
          <p:cNvPicPr/>
          <p:nvPr/>
        </p:nvPicPr>
        <p:blipFill>
          <a:blip r:embed="rId1"/>
          <a:stretch/>
        </p:blipFill>
        <p:spPr>
          <a:xfrm>
            <a:off x="5638680" y="3505320"/>
            <a:ext cx="238284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assword.wmv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54380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5399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Laptop Car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047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hedule check out from Mrs. Silva (EHS), Mrs. Dodd (EES, 4-6) or Mrs. Price (EES, K-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sure access point i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t u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rge after 4 hou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ep laptops or netboo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at and orderly in c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same netbooks or laptops to stud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ort any abuses to technology depart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2" descr="C:\Users\melinda.oyler.ENGLAND\AppData\Local\Microsoft\Windows\Temporary Internet Files\Content.IE5\AOG7OSL7\MC900285950[1].wmf"/>
          <p:cNvPicPr/>
          <p:nvPr/>
        </p:nvPicPr>
        <p:blipFill>
          <a:blip r:embed="rId1"/>
          <a:stretch/>
        </p:blipFill>
        <p:spPr>
          <a:xfrm>
            <a:off x="5873760" y="291456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Technology Standard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7521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Standards– http://www.england.k12.ar.us/view/technology-standards-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cher and Administrator Standards - http://www.england.k12.ar.us/view/technology-standards-teachers-and-administra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Resourc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7521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 2.0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ttrekker – http://www.nettrekker.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ES – Username: 4302017, Password: artr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HS – Username: 4302018, Password: artr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achers – Register User (Use Building LEA as Registration Ke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iand – http://my.triand.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sson Pl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actic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 Test Sc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0T14:01:37Z</dcterms:created>
  <dc:creator>melinda.oyler</dc:creator>
  <dc:description/>
  <dc:language>en-US</dc:language>
  <cp:lastModifiedBy>melinda.oyler</cp:lastModifiedBy>
  <dcterms:modified xsi:type="dcterms:W3CDTF">2010-08-13T16:39:43Z</dcterms:modified>
  <cp:revision>12</cp:revision>
  <dc:subject/>
  <dc:title>Technology 2010-2011</dc:title>
</cp:coreProperties>
</file>